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60BA-4EBB-46F2-A079-74762AB6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A2D0-8ABC-4047-89F9-AE6B2B85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0399-B7AD-481B-9067-3EF55191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0618-1A87-44B3-B61D-BABE0BEC0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B1A1-2651-45CD-ACD3-A7B78B2C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93EF-956D-4122-A15E-A269811A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E384-9C23-4E71-AFB2-DF555968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BDBD-9B31-437F-AC5B-B0B5A956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3E30-46AB-4B4F-A1F5-E1FF56F8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EE26-F001-4D99-B8B2-90170324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6EAA-FED6-4772-8F39-818B25C2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256D-3D09-4753-9385-824046C7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B8DF-2DA0-4FD8-A5E1-FD08DF0536A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odendegrad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950160" cy="4584960"/>
          </a:xfrm>
          <a:prstGeom prst="rect">
            <a:avLst/>
          </a:prstGeom>
          <a:ln w="0">
            <a:noFill/>
          </a:ln>
        </p:spPr>
      </p:pic>
      <p:sp>
        <p:nvSpPr>
          <p:cNvPr id="78" name="Rechteck 5"/>
          <p:cNvSpPr/>
          <p:nvPr/>
        </p:nvSpPr>
        <p:spPr>
          <a:xfrm>
            <a:off x="1042920" y="5877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Eine wachsende Bevölkerung kann sich den Verlus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fruchtbaren Bodens nicht leist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Interaktionen zwischen globalen Umweltveränderung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feld 3"/>
          <p:cNvSpPr/>
          <p:nvPr/>
        </p:nvSpPr>
        <p:spPr>
          <a:xfrm>
            <a:off x="7236000" y="6453360"/>
            <a:ext cx="165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WBGU, 20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70400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Interaktionen zwischen globalen Umweltveränderung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feld 3"/>
          <p:cNvSpPr/>
          <p:nvPr/>
        </p:nvSpPr>
        <p:spPr>
          <a:xfrm>
            <a:off x="7236000" y="6453360"/>
            <a:ext cx="165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WBGU, 20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704000" cy="4916520"/>
          </a:xfrm>
          <a:prstGeom prst="rect">
            <a:avLst/>
          </a:prstGeom>
          <a:ln w="0">
            <a:noFill/>
          </a:ln>
        </p:spPr>
      </p:pic>
      <p:sp>
        <p:nvSpPr>
          <p:cNvPr id="85" name="Gerade Verbindung 6"/>
          <p:cNvSpPr/>
          <p:nvPr/>
        </p:nvSpPr>
        <p:spPr>
          <a:xfrm>
            <a:off x="5940360" y="2492280"/>
            <a:ext cx="0" cy="331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Gerade Verbindung 8"/>
          <p:cNvSpPr/>
          <p:nvPr/>
        </p:nvSpPr>
        <p:spPr>
          <a:xfrm>
            <a:off x="7164360" y="2492280"/>
            <a:ext cx="0" cy="252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Gerade Verbindung 10"/>
          <p:cNvSpPr/>
          <p:nvPr/>
        </p:nvSpPr>
        <p:spPr>
          <a:xfrm>
            <a:off x="5940360" y="2492280"/>
            <a:ext cx="12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Gerade Verbindung 12"/>
          <p:cNvSpPr/>
          <p:nvPr/>
        </p:nvSpPr>
        <p:spPr>
          <a:xfrm>
            <a:off x="5940360" y="335772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Gerade Verbindung 14"/>
          <p:cNvSpPr/>
          <p:nvPr/>
        </p:nvSpPr>
        <p:spPr>
          <a:xfrm>
            <a:off x="5940360" y="422100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Gerade Verbindung 16"/>
          <p:cNvSpPr/>
          <p:nvPr/>
        </p:nvSpPr>
        <p:spPr>
          <a:xfrm>
            <a:off x="5940360" y="508464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Gerade Verbindung 19"/>
          <p:cNvSpPr/>
          <p:nvPr/>
        </p:nvSpPr>
        <p:spPr>
          <a:xfrm>
            <a:off x="3419640" y="5805360"/>
            <a:ext cx="49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Gerade Verbindung 21"/>
          <p:cNvSpPr/>
          <p:nvPr/>
        </p:nvSpPr>
        <p:spPr>
          <a:xfrm>
            <a:off x="5940360" y="5805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Gerade Verbindung 23"/>
          <p:cNvSpPr/>
          <p:nvPr/>
        </p:nvSpPr>
        <p:spPr>
          <a:xfrm>
            <a:off x="3419640" y="6381720"/>
            <a:ext cx="374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Gerade Verbindung 25"/>
          <p:cNvSpPr/>
          <p:nvPr/>
        </p:nvSpPr>
        <p:spPr>
          <a:xfrm>
            <a:off x="7164360" y="5013360"/>
            <a:ext cx="0" cy="136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Gerade Verbindung 34"/>
          <p:cNvSpPr/>
          <p:nvPr/>
        </p:nvSpPr>
        <p:spPr>
          <a:xfrm>
            <a:off x="8388360" y="3357720"/>
            <a:ext cx="0" cy="86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Gerade Verbindung 36"/>
          <p:cNvSpPr/>
          <p:nvPr/>
        </p:nvSpPr>
        <p:spPr>
          <a:xfrm>
            <a:off x="8388360" y="5084640"/>
            <a:ext cx="0" cy="72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Gerade Verbindung 41"/>
          <p:cNvSpPr/>
          <p:nvPr/>
        </p:nvSpPr>
        <p:spPr>
          <a:xfrm>
            <a:off x="4788000" y="4221000"/>
            <a:ext cx="0" cy="216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Gerade Verbindung 43"/>
          <p:cNvSpPr/>
          <p:nvPr/>
        </p:nvSpPr>
        <p:spPr>
          <a:xfrm>
            <a:off x="3419640" y="4221000"/>
            <a:ext cx="0" cy="216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Gerade Verbindung 45"/>
          <p:cNvSpPr/>
          <p:nvPr/>
        </p:nvSpPr>
        <p:spPr>
          <a:xfrm>
            <a:off x="3419640" y="422100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Gerade Verbindung 47"/>
          <p:cNvSpPr/>
          <p:nvPr/>
        </p:nvSpPr>
        <p:spPr>
          <a:xfrm flipH="1">
            <a:off x="3419640" y="5084640"/>
            <a:ext cx="25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oden – nachhaltige Entwickl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112000" cy="5112000"/>
          </a:xfrm>
          <a:prstGeom prst="rect">
            <a:avLst/>
          </a:prstGeom>
          <a:ln w="0">
            <a:noFill/>
          </a:ln>
        </p:spPr>
      </p:pic>
      <p:sp>
        <p:nvSpPr>
          <p:cNvPr id="103" name="Textfeld 4"/>
          <p:cNvSpPr/>
          <p:nvPr/>
        </p:nvSpPr>
        <p:spPr>
          <a:xfrm>
            <a:off x="1908000" y="6308640"/>
            <a:ext cx="468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Ute Stoltenberg, in Stoltenberg/ Thielebein-Pohl: KITA21 20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ir haben Boden gut zu mache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denschutz in Deutschland und Euro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andwirtschaftspolitik in Europ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nternationaler Bodenschut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Faz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‚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denl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ir dürfen keinen Boden unter den Füßen verlieren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wir müssen Boden gut machen!‘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3233520" cy="2425680"/>
          </a:xfrm>
          <a:prstGeom prst="rect">
            <a:avLst/>
          </a:prstGeom>
          <a:ln w="0">
            <a:noFill/>
          </a:ln>
        </p:spPr>
      </p:pic>
      <p:sp>
        <p:nvSpPr>
          <p:cNvPr id="109" name="Gerade Verbindung 7"/>
          <p:cNvSpPr/>
          <p:nvPr/>
        </p:nvSpPr>
        <p:spPr>
          <a:xfrm flipV="1">
            <a:off x="2916360" y="2276280"/>
            <a:ext cx="3240000" cy="23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Gerade Verbindung 9"/>
          <p:cNvSpPr/>
          <p:nvPr/>
        </p:nvSpPr>
        <p:spPr>
          <a:xfrm>
            <a:off x="2916360" y="2276640"/>
            <a:ext cx="3240000" cy="23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Aufga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‚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denlo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ir dürfen keinen Boden unter den Füß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verlieren, wir müssen Boden gut machen!‘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Überprüfen Sie diese These u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bewerten Sie die Erfolgsaussich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Vorgehensweise: </a:t>
            </a: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Gruppenpuzzle mit Rollenspie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Stammgruppe (‚Bundestag‘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stimmen Sie die zu untersuchenden Syndrom-Beispie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Expertengruppen (,Forscherteam‘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Analysieren Sie das ausgewählte Syndrom-Beispiel (z.B. AB 1-16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stellen Sie in Anlehnung an das ‚Globale Beziehungsgeflecht‘ (M2/AB-0) ein Wirkungsgefüge zum ausgewählten Syndrom-Beispiel (z.B. als Wandplakat/ Folie/ DIN A4-Skizze für Visualizer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Arbeiten Sie mithilfe von geeigneten Karten (z.B. Terra 2010, S. 206/12, Atlas) weitere Regionen heraus, in denen das ausgewählte Syndrom möglicherweise auftrit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schreiben und begründen Sie mögliche Prognosen für einen möglichen weiteren Syndrom-Verlauf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stellen Sie eigene Handlungskonzepte mit dem Ziel eine weitere nicht nachhaltige Syndrom-Entwicklung zu vermeid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Vorgehensweise: </a:t>
            </a: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Gruppenpuzzle mit Rollenspie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Stammgruppe (‚Bundestag‘, evtl. Lehrkraft als Bundeskanzler/-i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zum Hinterfragen, Steuern des Ablauf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Präsentieren Sie die Ergebnisse der Expertenteams (pro Expertenteam ca. 5-7 Min.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örtern Sie die Realisierbarkeit, Chancen bzw. Probleme  der vorgeschlagenen Lösungsansätze. (pro Expertenteam ca. 5-7 Min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nennen Sie in einem kurzen Diskurs die für Ihr Lebensumfeld wichtigsten Handlungskonzepte und ordnen Sie diese gemäß ihrer Dringlichkeit (kurz-, mittel-, langfristig, ca. 5-7 Min.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Formulieren Sie eine Handlungsempfehlung an die Bundesregierung. (evtl. Lehrkraft als Bundeskanzler/-in  Hausaufgab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(5.evtl. mit Protokollant/-in (‚Presse‘) und Kamera- Dokumenta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Calibri"/>
              </a:rPr>
              <a:t>Boden aktuel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ltbevölker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073240" y="1600200"/>
            <a:ext cx="4997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ltbevölker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feld 4"/>
          <p:cNvSpPr/>
          <p:nvPr/>
        </p:nvSpPr>
        <p:spPr>
          <a:xfrm>
            <a:off x="3635280" y="6093000"/>
            <a:ext cx="482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100" spc="-1" strike="noStrike">
                <a:solidFill>
                  <a:srgbClr val="000000"/>
                </a:solidFill>
                <a:latin typeface="Calibri"/>
              </a:rPr>
              <a:t>(Quelle: Population Reference Bureau, 2011 in Stiftung Weltbevölkerung, 20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3097080" cy="2805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3059280" y="2565360"/>
            <a:ext cx="56703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391600" cy="4803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and footpr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feld 6"/>
          <p:cNvSpPr/>
          <p:nvPr/>
        </p:nvSpPr>
        <p:spPr>
          <a:xfrm>
            <a:off x="611280" y="6237360"/>
            <a:ext cx="7632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feld 8"/>
          <p:cNvSpPr/>
          <p:nvPr/>
        </p:nvSpPr>
        <p:spPr>
          <a:xfrm>
            <a:off x="395280" y="609300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Calibri"/>
              </a:rPr>
              <a:t>Sustainable Europe Research Institute (SERI),201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feld 5"/>
          <p:cNvSpPr/>
          <p:nvPr/>
        </p:nvSpPr>
        <p:spPr>
          <a:xfrm>
            <a:off x="3059280" y="4797360"/>
            <a:ext cx="583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</a:rPr>
              <a:t>Effektive Land-Nachfrage in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Deutschland ( 82 Mio. E. )</a:t>
            </a:r>
            <a:r>
              <a:rPr b="1" lang="de-DE" sz="2000" spc="-1" strike="noStrike">
                <a:solidFill>
                  <a:srgbClr val="ff0000"/>
                </a:solidFill>
                <a:latin typeface="Calibri"/>
              </a:rPr>
              <a:t>Ø 1,2 ha p.P./ Ø 103 Mio.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China (1,3 Mrd. E. )          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Ø 0,4 ha p.P. /Ø 518 Mio.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Indien ( 1,1 Mrd. E.)         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Ø 0,2 ha p.P./Ø 200 Mio.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Flächenverfügbarke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3640" y="1341360"/>
            <a:ext cx="3106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2050 werden nur noch 0,15 ha pro Person verfügbar sein (FAO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2025 werden ca.740 Mio. Menschen von Landknappheit betroffen se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mmer mehr Menschen steht immer weniger Ackerfläche zur Verfüg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564000" y="1341360"/>
            <a:ext cx="5330880" cy="3301920"/>
          </a:xfrm>
          <a:prstGeom prst="rect">
            <a:avLst/>
          </a:prstGeom>
          <a:ln w="0">
            <a:noFill/>
          </a:ln>
        </p:spPr>
      </p:pic>
      <p:sp>
        <p:nvSpPr>
          <p:cNvPr id="56" name="Textfeld 6"/>
          <p:cNvSpPr/>
          <p:nvPr/>
        </p:nvSpPr>
        <p:spPr>
          <a:xfrm>
            <a:off x="3708360" y="458136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Calibri"/>
              </a:rPr>
              <a:t>Dt. Stiftung Weltbevölkerung, 1999, Population Action International, 20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feld 8"/>
          <p:cNvSpPr/>
          <p:nvPr/>
        </p:nvSpPr>
        <p:spPr>
          <a:xfrm>
            <a:off x="2484360" y="5516640"/>
            <a:ext cx="60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Böden sind global unter Dr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andwirtschaftliche Nutz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37,7% der weltweiten Landfläche, d.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4,9 Mrd. ha gelten als landwirtschaftliche Nutzflä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69,4 %, d.h. 3,4 Mrd. ha sind Dauergrün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28,6 %, d.h. 1,4 Mrd. ha sind Acke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10,9%, d.h. 152 Mio. ha sind permanente Ackerkultur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feld 3"/>
          <p:cNvSpPr/>
          <p:nvPr/>
        </p:nvSpPr>
        <p:spPr>
          <a:xfrm>
            <a:off x="6443640" y="5013360"/>
            <a:ext cx="1800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</a:t>
            </a:r>
            <a:r>
              <a:rPr b="0" i="1" lang="de-DE" sz="1100" spc="-1" strike="noStrike">
                <a:solidFill>
                  <a:srgbClr val="000000"/>
                </a:solidFill>
                <a:latin typeface="Calibri"/>
              </a:rPr>
              <a:t>FAOSTAT, 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feld 4"/>
          <p:cNvSpPr/>
          <p:nvPr/>
        </p:nvSpPr>
        <p:spPr>
          <a:xfrm>
            <a:off x="755640" y="558972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Konkurrenz um Teller, Trog und T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Können alle Menschen noch satt werde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eu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1 Milliarde Menschen hungernd 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2 MilliardenMenschen mit Mangel-und Fehlernähr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und steigender Fleischkons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feld 8"/>
          <p:cNvSpPr/>
          <p:nvPr/>
        </p:nvSpPr>
        <p:spPr>
          <a:xfrm>
            <a:off x="900000" y="422100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Nahrungsbedar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+ 42% bis 2030 + 70% bis 20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feld 9"/>
          <p:cNvSpPr/>
          <p:nvPr/>
        </p:nvSpPr>
        <p:spPr>
          <a:xfrm>
            <a:off x="5580000" y="5516640"/>
            <a:ext cx="201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FAOSTAT 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ltbevölkerung – Planet Er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9280" y="1412640"/>
            <a:ext cx="4319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teigende Nachfr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feld 4"/>
          <p:cNvSpPr/>
          <p:nvPr/>
        </p:nvSpPr>
        <p:spPr>
          <a:xfrm>
            <a:off x="3132000" y="2349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Flächenkonkurr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feld 7"/>
          <p:cNvSpPr/>
          <p:nvPr/>
        </p:nvSpPr>
        <p:spPr>
          <a:xfrm>
            <a:off x="3419640" y="3213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Nutzungsdru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feld 8"/>
          <p:cNvSpPr/>
          <p:nvPr/>
        </p:nvSpPr>
        <p:spPr>
          <a:xfrm>
            <a:off x="324000" y="4437000"/>
            <a:ext cx="8640720" cy="271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Bodendegradier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d.h. Verlust von Bodenfunktionen un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Bodenleistun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abnehmende Bodenproduktivitä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feld 10"/>
          <p:cNvSpPr/>
          <p:nvPr/>
        </p:nvSpPr>
        <p:spPr>
          <a:xfrm>
            <a:off x="5219640" y="148428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grenztes Angeb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feil nach links und rechts 11"/>
          <p:cNvSpPr/>
          <p:nvPr/>
        </p:nvSpPr>
        <p:spPr>
          <a:xfrm>
            <a:off x="4211640" y="1628640"/>
            <a:ext cx="865080" cy="287640"/>
          </a:xfrm>
          <a:prstGeom prst="leftRightArrow">
            <a:avLst>
              <a:gd name="adj1" fmla="val 50000"/>
              <a:gd name="adj2" fmla="val 49944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feil nach unten 12"/>
          <p:cNvSpPr/>
          <p:nvPr/>
        </p:nvSpPr>
        <p:spPr>
          <a:xfrm>
            <a:off x="4427640" y="2060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feil nach unten 13"/>
          <p:cNvSpPr/>
          <p:nvPr/>
        </p:nvSpPr>
        <p:spPr>
          <a:xfrm>
            <a:off x="4427640" y="2852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feil nach unten 14"/>
          <p:cNvSpPr/>
          <p:nvPr/>
        </p:nvSpPr>
        <p:spPr>
          <a:xfrm>
            <a:off x="4427640" y="3860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07:17:22Z</dcterms:created>
  <dc:creator>GEO-Seminar Schmidt</dc:creator>
  <dc:description/>
  <dc:language>en-US</dc:language>
  <cp:lastModifiedBy>Manz</cp:lastModifiedBy>
  <dcterms:modified xsi:type="dcterms:W3CDTF">2012-11-08T13:11:50Z</dcterms:modified>
  <cp:revision>74</cp:revision>
  <dc:subject/>
  <dc:title>Boden aktuell</dc:title>
</cp:coreProperties>
</file>